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D15B-7C46-466C-BAAE-0966615AE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3DEE-9C3E-4201-A3E3-11BED0F8D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ncial Values Inventory is available at FinanceInTheClassroom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paste the following URL into your browser http://financeintheclassroom.org/student/print.shtml#financialbehavior and scroll down to Financi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what you want vs. what you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3348-3A34-4A28-A7D5-DB6FCEAB71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CDF-DA6F-436B-A18E-DE3D5416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4E5-050A-482A-8EBA-230128C2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964-F3A5-4422-BFC7-D523B327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94C-AE2D-482B-A7E9-371D300C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98D3-9582-4135-A3B7-2AFF39E5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9A6A-B414-412C-B88C-21B7D916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7D5F-309A-4380-90E0-C0160DCA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9CC9-27A6-4CBF-99F7-3B1A3239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4DC4-5B22-4186-89DB-6E04F385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98AE-0367-46D0-8850-E16304B5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5F4A-2CF9-4106-A9B9-6EC14B26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8BE-3B8F-4958-9775-4CB6734A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2E1D-30BD-4C94-B9EE-A75F7BD8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4CE5-14C7-4B10-ACD7-2D7B8226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3391-9A84-43D2-A376-2AF02983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4A70-7D9A-46C7-BEE6-476382B6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5750-564B-4E83-9DE1-FE66A352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DD7-6FE1-4A1B-ACE1-0EF01805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047-CB97-424C-9478-660E692D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141-FA35-43C4-9ADF-D1A0B304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E1F-9D0B-4FE9-9C5A-8BB6ABFF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2D1-B172-4E48-A250-B24AFB7D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8AA-926E-4A98-9545-59C7164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9AF-FF9C-4932-81A5-4D3897B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6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6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7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7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8F09-CF8F-44D6-B3EC-C79BC53AFD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6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6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7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7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D647-94B9-4C8B-8B51-2412E900BD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Verdana"/>
              </a:rPr>
              <a:t>Values, Wants and Needs</a:t>
            </a:r>
            <a:endParaRPr b="0" lang="en-US" sz="5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8" descr="logo_sm"/>
          <p:cNvPicPr/>
          <p:nvPr/>
        </p:nvPicPr>
        <p:blipFill>
          <a:blip r:embed="rId1"/>
          <a:stretch/>
        </p:blipFill>
        <p:spPr>
          <a:xfrm>
            <a:off x="2895480" y="4343400"/>
            <a:ext cx="33656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Verdana"/>
              </a:rPr>
              <a:t>Values</a:t>
            </a: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 strongly influence our spending habits.  We don’t usually spend our money on things we do not feel are important.  Typically, the </a:t>
            </a:r>
            <a:r>
              <a:rPr b="0" lang="en-US" sz="4400" spc="-1" strike="noStrike">
                <a:solidFill>
                  <a:srgbClr val="ff6600"/>
                </a:solidFill>
                <a:latin typeface="Verdana"/>
              </a:rPr>
              <a:t>more important</a:t>
            </a: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 something is, the more we are </a:t>
            </a:r>
            <a:r>
              <a:rPr b="0" lang="en-US" sz="4400" spc="-1" strike="noStrike">
                <a:solidFill>
                  <a:srgbClr val="ff6600"/>
                </a:solidFill>
                <a:latin typeface="Verdana"/>
              </a:rPr>
              <a:t>willing to spend on it</a:t>
            </a: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Verdana"/>
              </a:rPr>
              <a:t>Values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57440" y="1523520"/>
            <a:ext cx="3389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f Reli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1523520"/>
            <a:ext cx="373248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eliefs and practices in your life that are very important to yo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5" descr="mother with daughters 6"/>
          <p:cNvPicPr/>
          <p:nvPr/>
        </p:nvPicPr>
        <p:blipFill>
          <a:blip r:embed="rId1"/>
          <a:stretch/>
        </p:blipFill>
        <p:spPr>
          <a:xfrm>
            <a:off x="1066680" y="3809880"/>
            <a:ext cx="2971800" cy="21495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4838760" y="6477120"/>
            <a:ext cx="430524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* Financial Values Inven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4" descr="Want_vs_Need_by_rogaziano"/>
          <p:cNvPicPr/>
          <p:nvPr/>
        </p:nvPicPr>
        <p:blipFill>
          <a:blip r:embed="rId1"/>
          <a:stretch/>
        </p:blipFill>
        <p:spPr>
          <a:xfrm>
            <a:off x="2286000" y="609480"/>
            <a:ext cx="43657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Scarcity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Scarc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n economic principle stating that because of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limited resourc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 economic system cannot possibly produce all the goods and services that people want; therefore,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choices must be mad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how the limited resources will be used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C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onsumer Economics &amp; Education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encoe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NEEDS vs WANTS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47624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N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…the basics of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o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l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Vegetables2"/>
          <p:cNvPicPr/>
          <p:nvPr/>
        </p:nvPicPr>
        <p:blipFill>
          <a:blip r:embed="rId1"/>
          <a:stretch/>
        </p:blipFill>
        <p:spPr>
          <a:xfrm>
            <a:off x="3581280" y="3048120"/>
            <a:ext cx="2925720" cy="1947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AdobeBuilding"/>
          <p:cNvPicPr/>
          <p:nvPr/>
        </p:nvPicPr>
        <p:blipFill>
          <a:blip r:embed="rId2"/>
          <a:stretch/>
        </p:blipFill>
        <p:spPr>
          <a:xfrm>
            <a:off x="5638680" y="1523880"/>
            <a:ext cx="2819520" cy="1876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AssortedFruit"/>
          <p:cNvPicPr/>
          <p:nvPr/>
        </p:nvPicPr>
        <p:blipFill>
          <a:blip r:embed="rId3"/>
          <a:stretch/>
        </p:blipFill>
        <p:spPr>
          <a:xfrm>
            <a:off x="5684760" y="4300560"/>
            <a:ext cx="29257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NEEDS vs WANTS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64652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W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ply increase the quality of liv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4" descr="Car3"/>
          <p:cNvPicPr/>
          <p:nvPr/>
        </p:nvPicPr>
        <p:blipFill>
          <a:blip r:embed="rId1"/>
          <a:stretch/>
        </p:blipFill>
        <p:spPr>
          <a:xfrm>
            <a:off x="5989680" y="4038480"/>
            <a:ext cx="2925720" cy="2249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ManOnCell"/>
          <p:cNvPicPr/>
          <p:nvPr/>
        </p:nvPicPr>
        <p:blipFill>
          <a:blip r:embed="rId2"/>
          <a:stretch/>
        </p:blipFill>
        <p:spPr>
          <a:xfrm>
            <a:off x="6019920" y="1563840"/>
            <a:ext cx="2819160" cy="2170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facial mask 10"/>
          <p:cNvPicPr/>
          <p:nvPr/>
        </p:nvPicPr>
        <p:blipFill>
          <a:blip r:embed="rId3"/>
          <a:stretch/>
        </p:blipFill>
        <p:spPr>
          <a:xfrm>
            <a:off x="3925800" y="3352680"/>
            <a:ext cx="1865520" cy="2819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residential home 23"/>
          <p:cNvPicPr/>
          <p:nvPr/>
        </p:nvPicPr>
        <p:blipFill>
          <a:blip r:embed="rId4"/>
          <a:stretch/>
        </p:blipFill>
        <p:spPr>
          <a:xfrm>
            <a:off x="228600" y="3657600"/>
            <a:ext cx="35053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9:49:49Z</dcterms:created>
  <dc:creator>Costco</dc:creator>
  <dc:description/>
  <dc:language>en-US</dc:language>
  <cp:lastModifiedBy>Thao Le</cp:lastModifiedBy>
  <dcterms:modified xsi:type="dcterms:W3CDTF">2012-08-27T21:46:41Z</dcterms:modified>
  <cp:revision>8</cp:revision>
  <dc:subject/>
  <dc:title>Slide 1</dc:title>
</cp:coreProperties>
</file>